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D4AC-3388-4846-A75E-574FCB2AA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6C62-36EB-480F-9525-EA457148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1ADB-AD98-4279-BE56-0D15785D4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CD3E-73E8-4ED8-95D3-AEADEBE84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628F-1704-4FD6-AFC2-7ED1152C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3431-0AA3-492E-9F33-ABF01378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573D-CA6A-4100-92E0-A4856954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8166-6BA4-47ED-856B-5C3EFA7B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2AB0-4018-43A2-9773-3AA9E876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2E79-1231-4C60-BA5B-F642B925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B098-7DC1-440C-80FE-A0982AD2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337A-8B70-4F18-99E3-EAFB1079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FB9A-1243-4E45-8BA7-F0AB167FC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18 Kto Božej vôli poddáva s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 v neho dúfa, k nemu ľ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n naveky sa nepohn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 Božej vôli poddáva s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ždy je s Pánom spojený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pod ťarchou kríža nevzdáva sa,</a:t>
            </a:r>
            <a:br>
              <a:rPr sz="47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stráca vieru v súže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 v Bohu svoju nádej m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k skala stojí prepevn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ez Boha márna starosť naš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ezosných nocí únava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bezodná je bôľu čaš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ilu nám viera dodá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, ktorý v Kristu spasil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 odmerať aj skúšok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neopustí svoje de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las prosieb naši počuj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 tmách nám svie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e nás chráni, mil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o viere učí pevne stá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ilu dáva vytrvať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lož všetko trápen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d kríž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ovi rád sa odovzdaj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droj útechy vždy nájde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 ň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neho vždy sa spolieh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8T10:34:16Z</dcterms:modified>
  <cp:revision>21</cp:revision>
  <dc:subject/>
  <dc:title>Je veľký náš Pán, on slávy je Kráľ Nech do všetkých strán  spev vrúcnych znie chvál.</dc:title>
</cp:coreProperties>
</file>